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E165-01ED-4504-AEFE-6DF5AE61B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2869-949A-423E-8BFA-4FEACE756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204-782D-4CE5-BCEC-7BE1EC4F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B54-69AC-4480-9BD3-5B1E4F2E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23D-067F-4741-B513-283890B5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ED2-3C22-4C8F-BF43-376B3FFF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E2C-DA81-4164-B9C0-D5C44CA8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E3B-F4D5-436B-AA90-44F07EA5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F0C-87E2-4A11-AC17-BF46E4E0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D1B-8F4F-46FD-A237-5224FDC3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E5B-E882-40ED-BF47-2476CC7D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F8E-4375-4974-A726-40C1D33B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7F6-2C69-4757-90E9-8782BDF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8EF-BE50-4FB1-A471-677057E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0B93-7001-4628-A47F-272BA623D3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93BA-A4CC-4F76-A36C-16EF6778A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декаб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37AE-5A2F-4105-9B42-BFD8F9ACFA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декаб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11-14T06:35:42Z</dcterms:modified>
  <cp:revision>161</cp:revision>
  <dc:subject/>
  <dc:title>Презентация PowerPoint</dc:title>
</cp:coreProperties>
</file>